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77BB-9902-4118-84B8-2A11AA31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8BD-672F-4A73-9507-93EE240F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AD9-69A8-4E30-9EF3-B4D68CB7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922-386B-4727-95C8-E83EE592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1319-E0A9-44A0-963D-79F23960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7F1C-74D2-4049-AE90-9F7F1324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DD0A-045F-45D7-AA56-5FA90985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4BA5-6718-40F4-8419-6EFE848F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3F43-B68D-47DC-AABE-4B4881EA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DFAA-0FF6-40AA-8ECF-FBE0063F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FD8F-1399-4F59-8C2F-C6EE9770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B4A-A1B7-44DB-887D-E79335BF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1391-23E9-447F-AAA9-BF5D1708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25C9-C576-4C12-8F0C-B448ED2A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EAC0-E687-42ED-A746-777ED7AF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DC80-72D6-4956-99CC-7949E6AD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66A5-2480-479E-AB0B-87C0CE09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65F1-400F-4774-9F2A-BA0C06AF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95A-8FB1-4463-B107-754B5083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A3CE-DE28-4DED-9C15-29BD2B0F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EF0-8D95-4037-9D83-FF96D9B4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CE2-84A0-46CF-AD95-A345D1F8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755-6C0E-478B-90CE-187A4A9F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BDA-5806-4F80-8D39-DD849A9F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E05B-06E9-4328-B95D-C71C53AA1DF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C9DE-9230-4F8B-959A-88C5DC9D4C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ETODA BACKTRACKING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5120" y="4059000"/>
            <a:ext cx="586728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64000" y="17733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ws16</cp:lastModifiedBy>
  <dcterms:modified xsi:type="dcterms:W3CDTF">2012-06-19T11:04:52Z</dcterms:modified>
  <cp:revision>32</cp:revision>
  <dc:subject/>
  <dc:title>SALARIUL</dc:title>
</cp:coreProperties>
</file>